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3B4-AACD-41AF-A488-44632F5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44D-6547-427E-BB09-EA4C429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DE9-7BCC-4890-9C63-B1C77B58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44B-8627-4BC6-8BEE-8442C9EC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26C-2C94-4963-883D-98682B7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3D5-22B7-4FA7-BAD1-FB4C930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4F6-6331-4C26-B3BD-386F6B1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06D-662D-4930-8BEB-71872F1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38C-2F40-45D2-A30F-5AC82BE8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20D-2D0F-4A11-B16B-FC853A9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AC1-4146-4909-9734-38A1770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157-8448-41C9-A03D-F2B9AEA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2FC-F43E-45B8-8058-F742FD0C709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ahoma"/>
              </a:rPr>
              <a:t>ALGORITMI DI TRATTAMENTO DELLE EMERGENZE ARITMICHE IN AREA CRI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LIDOCA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e: FV refrattaria/TV senza po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o: 100 mg ev (1-1,5 mg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Meccanismo d’azione: antiaritmico stabilizzante di membrana, prolunga la durata del periodo di refrattarietà e deprime l’attività dei tessuti depolarizzati aritmog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SOLFATO DI MAGNES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i: FV refrattaria alla tp. elettrica in ipomagnesemia, tachiaritmie ventricolari in presenza di ipomagnesemia, torsione di punta, FA, tossicità digita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2 g ev in bolo se F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2 g ev in 10 mi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SOLFATO DI MAGNES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Meccanismo d’azione: blocca i canali del calcio, riduce la sensibilità della placca neuromuscolare e migliora la risposta contrattile del miocardio “stordito”</a:t>
            </a:r>
            <a:r>
              <a:rPr b="0" lang="it-IT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ATTENZIONE</a:t>
            </a:r>
            <a:r>
              <a:rPr b="0" lang="it-IT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flushing, sudorazione, bradicardia, ipotensione se infuso rapid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ATROP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i: asistolia, PEA con Fc&lt;60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o: 3 mg ev in un’unica somminis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Meccanismo d’azione: antagonista colinergico sui recettori muscarinici, aumenta l’automaticità del nodo del seno e facilita la conduzione attraverso il nodo 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CAL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i: PEA causato da ipocalcemia, iperpotassiemia, intossicazione da calcio antagonisti, ipermagnes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o: 10 ml ev di CaCl al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Meccanismo d’azione: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otropo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BICARBONATO DI SO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i: arresto cardiaco associato ad iperpotassiemia, intossicazione da antidepressivi tricic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o: 50 ml ev di NaHCO 8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ATTENZIONE la somministrazione di NaHCO</a:t>
            </a:r>
            <a:r>
              <a:rPr b="0" lang="it-IT" sz="3200" spc="-1" strike="noStrike" baseline="-25000">
                <a:solidFill>
                  <a:srgbClr val="ffff99"/>
                </a:solidFill>
                <a:latin typeface="Tahoma"/>
              </a:rPr>
              <a:t>3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etermina la formazione di CO2 che ha effetto inotropo negativo e sposta a sinistra la curva di dissociazione dell’emoglo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ADENOSINA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ahoma"/>
              </a:rPr>
              <a:t>Indicazioni: tachicardia a complessi stretti e regolari stabile (oppure tachicardia a complessi larghi di sicura origine sopraventricolare con conduzione di BB) non interrotta da manovre vag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ahoma"/>
              </a:rPr>
              <a:t>Dosaggio: 6 mg, 12 mg, 12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ahoma"/>
              </a:rPr>
              <a:t>Meccanismo d’azione: rallenta la trasmissione attraverso il nodo AV ma ha scarso effetto sulle altre cellule cardiache o sulle altre vie di condu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ATTENZIONE stretto monitoraggio per possibile transitoria asistolia dopo la somministrazione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ARMACI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La terapia farmacologica va presa in considerazione solo dopo avere avviato la rianimazione cardiopolmonare con compressioni toraciche e ventilazione e solo dopo avere tentato, se indicata, la defibril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ARMA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ie di somministrazi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ndoven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via venosa perif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via venos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Intraos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ndotrach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24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66"/>
                </a:solidFill>
                <a:latin typeface="Tahoma"/>
              </a:rPr>
              <a:t>FARMACI</a:t>
            </a:r>
            <a:r>
              <a:rPr b="0" lang="it-IT" sz="4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146320"/>
            <a:ext cx="11649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66"/>
                </a:solidFill>
                <a:latin typeface="Arial"/>
              </a:rPr>
              <a:t>interf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146320"/>
            <a:ext cx="14526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abi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146320"/>
            <a:ext cx="19317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complica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9080" y="2146320"/>
            <a:ext cx="9198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effe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240" y="2143080"/>
            <a:ext cx="468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187800"/>
            <a:ext cx="79308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V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440" y="3506760"/>
            <a:ext cx="150804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erif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0320" y="3200400"/>
            <a:ext cx="54324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92120" y="3198960"/>
            <a:ext cx="14868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93200" y="3198960"/>
            <a:ext cx="25380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360" y="3292560"/>
            <a:ext cx="82980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240" y="3173400"/>
            <a:ext cx="46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28960" y="317340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5400" y="317340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2200" y="317340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47000" y="317340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66320" y="3276720"/>
            <a:ext cx="61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240" y="3184560"/>
            <a:ext cx="468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9000" y="4227480"/>
            <a:ext cx="79308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V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920" y="4572000"/>
            <a:ext cx="127008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cent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4840" y="4419720"/>
            <a:ext cx="37116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65960" y="4419720"/>
            <a:ext cx="75960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++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20320" y="4419720"/>
            <a:ext cx="75960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++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4511520"/>
            <a:ext cx="10324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240" y="4214880"/>
            <a:ext cx="46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28960" y="421488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35400" y="421488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2200" y="421488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47000" y="421488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66320" y="4214880"/>
            <a:ext cx="61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240" y="4226040"/>
            <a:ext cx="468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000" y="5268960"/>
            <a:ext cx="81144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Tu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7520" y="5587920"/>
            <a:ext cx="14547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trache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44840" y="5486400"/>
            <a:ext cx="37116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02760" y="5486400"/>
            <a:ext cx="50652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57120" y="5486400"/>
            <a:ext cx="506520" cy="5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08720" y="5516640"/>
            <a:ext cx="18352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c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240" y="5254560"/>
            <a:ext cx="46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8960" y="525456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5400" y="525456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2200" y="525456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47000" y="525456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66320" y="5254560"/>
            <a:ext cx="61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240" y="5265720"/>
            <a:ext cx="468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240" y="62946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240" y="629460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28960" y="6294600"/>
            <a:ext cx="61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5400" y="6294600"/>
            <a:ext cx="61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2200" y="6294600"/>
            <a:ext cx="64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47000" y="6294600"/>
            <a:ext cx="61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66320" y="6294600"/>
            <a:ext cx="61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66320" y="6294600"/>
            <a:ext cx="61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0" y="6302520"/>
            <a:ext cx="12960" cy="1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26828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ie di somministrazi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076640"/>
            <a:ext cx="86421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5157720"/>
            <a:ext cx="86421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OSSI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99"/>
                </a:solidFill>
                <a:latin typeface="Tahoma"/>
              </a:rPr>
              <a:t>Non si nega a nessu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OSSI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Indicazione: TUT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Dosaggio: FiO2 = 1 ovvero 100 % di ossi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Meccanismo d’azione: aumenta la saturazione dell’H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  <a:ea typeface="Arial"/>
              </a:rPr>
              <a:t>ATTENZIONE: </a:t>
            </a: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essere sicuri di somministrarlo ad alti fl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ADRENAL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Indicazione: ACC di qualsiasi ezi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Dosaggio: 1 mg ev/intraossea (3 mg in 10-20 ml acqua sterile nel tubo endotrache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Meccanismo d’azione: amina simpaticomimetica dotata di attività </a:t>
            </a:r>
            <a:r>
              <a:rPr b="0" lang="el-GR" sz="2800" spc="-1" strike="noStrike">
                <a:solidFill>
                  <a:srgbClr val="ffff99"/>
                </a:solidFill>
                <a:latin typeface="Tahoma"/>
                <a:ea typeface="Arial"/>
              </a:rPr>
              <a:t>α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  <a:ea typeface="Arial"/>
              </a:rPr>
              <a:t> e </a:t>
            </a:r>
            <a:r>
              <a:rPr b="0" lang="el-GR" sz="2800" spc="-1" strike="noStrike">
                <a:solidFill>
                  <a:srgbClr val="ffff99"/>
                </a:solidFill>
                <a:latin typeface="Tahoma"/>
                <a:ea typeface="Arial"/>
              </a:rPr>
              <a:t>β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  <a:ea typeface="Arial"/>
              </a:rPr>
              <a:t> (per effetto sui recettori </a:t>
            </a:r>
            <a:r>
              <a:rPr b="0" lang="el-GR" sz="2800" spc="-1" strike="noStrike">
                <a:solidFill>
                  <a:srgbClr val="ffff99"/>
                </a:solidFill>
                <a:latin typeface="Tahoma"/>
                <a:ea typeface="Arial"/>
              </a:rPr>
              <a:t>α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  <a:ea typeface="Arial"/>
              </a:rPr>
              <a:t> aumenta le resistenze vascolari e la PA e migliora il flusso ematico miocardico e cerebr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  <a:ea typeface="Arial"/>
              </a:rPr>
              <a:t>ATTENZIONE: potenzialmente aritmoge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VASOPRESS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99"/>
                </a:solidFill>
                <a:latin typeface="Tahoma"/>
              </a:rPr>
              <a:t>Non esistono evidenze sufficienti per sostenere o respingere l’uso della vasopressina in alternativa o in associazione all’adrenalina nell’arresto cardiaco </a:t>
            </a:r>
            <a:r>
              <a:rPr b="0" lang="it-IT" sz="36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ffff99"/>
                </a:solidFill>
                <a:latin typeface="Tahoma"/>
              </a:rPr>
              <a:t> continuare ad usare l’adrenalina come principale vasopressore</a:t>
            </a:r>
            <a:r>
              <a:rPr b="0" lang="it-IT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ahoma"/>
              </a:rPr>
              <a:t>AMIODAR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Indicazione: FV refrattaria/TV senza p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Dosaggio: bolo iniziale 300 mg ev. in G5% 2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Meccanismo d’azione: antiaritmico stabilizzante di membrana, prolunga la durata del potenziale d’azione ed il periodo refrattario, sia a livello atriale che ventricolare </a:t>
            </a:r>
            <a:r>
              <a:rPr b="0" lang="it-IT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 rallenta conduz. A-V, anche a livello delle vie access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99"/>
                </a:solidFill>
                <a:latin typeface="Tahoma"/>
              </a:rPr>
              <a:t>ATTENZIONE rischio tromboflebite se somministrato in vena periferica</a:t>
            </a:r>
            <a:r>
              <a:rPr b="0" lang="it-IT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7:53:03Z</dcterms:created>
  <dc:creator>amb</dc:creator>
  <dc:description/>
  <dc:language>en-US</dc:language>
  <cp:lastModifiedBy>ilario amedeo paternò</cp:lastModifiedBy>
  <dcterms:modified xsi:type="dcterms:W3CDTF">2009-03-11T15:41:27Z</dcterms:modified>
  <cp:revision>22</cp:revision>
  <dc:subject/>
  <dc:title>ALGORITMI DI TRATTAMENTO DELLE EMERGENZE ARITMICHE IN AREA CRITICA</dc:title>
</cp:coreProperties>
</file>